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C8E-8F71-4CE2-94A3-25D9472B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E06-BF72-44C4-A60D-E2F89188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3B2-AF1B-4BAD-928F-9D6BFABF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116-6048-4F0C-8EC5-8A50C557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76F-B8F6-4767-AE92-1ACBFF7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3D1-0D3F-416A-A27A-B7C0811E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C8E-44D5-426B-96D7-9141E9F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7F8-A70A-42E1-9F2C-07A0299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887-8F66-4493-9A5E-056C4C2F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110-4E24-4D91-97DE-906A6BBA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507-6C81-4FC2-8357-4A2EFFF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921-C25F-4DC7-858A-F4B7620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E76-0E2A-47F3-AAE2-70A1E80B3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304920" y="1022400"/>
            <a:ext cx="5331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09480" y="874800"/>
            <a:ext cx="60984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2895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第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19</a:t>
            </a: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章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  <a:ea typeface="黑体"/>
              </a:rPr>
              <a:t>解释器模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19520" y="546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刘    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eiliu_china@yahoo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文法规则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xpression ::= value | symbo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ymbol ::= expression '+' expression | expression '-' expressio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value ::= an integer //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一个整数值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在文法规则定义中可以使用一些符号来表示不同的含义，如使用“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|”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表示或，使用“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{”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和“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}”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表示组合，使用“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*”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表示出现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0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次或多次等，其中使用频率最高的符号是表示或关系的“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|” 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抽象语法树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ahoma"/>
              </a:rPr>
              <a:t>除了使用文法规则来定义一个语言，在解释器模式中还可以通过一种称之为</a:t>
            </a:r>
            <a:r>
              <a:rPr b="0" lang="zh-CN" sz="1600" spc="-1" strike="noStrike">
                <a:solidFill>
                  <a:srgbClr val="ff3300"/>
                </a:solidFill>
                <a:latin typeface="Tahoma"/>
              </a:rPr>
              <a:t>抽象语法树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Abstract Syntax Tree, AST)</a:t>
            </a:r>
            <a:r>
              <a:rPr b="0" lang="zh-CN" sz="1600" spc="-1" strike="noStrike">
                <a:solidFill>
                  <a:srgbClr val="333333"/>
                </a:solidFill>
                <a:latin typeface="Tahoma"/>
              </a:rPr>
              <a:t>的图形方式来直观地表示语言的构成，每一棵抽象语法树对应一个语言实例。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2981160" y="1146240"/>
          <a:ext cx="6010560" cy="54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1160" y="1146240"/>
                    <a:ext cx="601056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抽象语法树描述了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构成一个复杂的句子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通过对抽象语法树的分析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可以识别出语言中的终结符和非终结符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解释器模式中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每一种终结符和非终结符都有一个具体类与之对应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正因为使用类来表示每一个语法规则，使得系统具有较好的扩展性和灵活性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抽象表达式类实现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2971800"/>
          <a:ext cx="7391520" cy="157320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158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class Abstract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void interpret(Context ct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终结符表达式类实现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2971800"/>
          <a:ext cx="7391520" cy="301788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30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TerminalExpression extends Abstract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interpret(Context ct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对于终结符表达式的解释操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非终结符表达式类实现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895480"/>
          <a:ext cx="7391520" cy="367668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369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NonterminalExpression extends Abstract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rivate AbstractExpression lef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rivate AbstractExpression righ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NonterminalExpression(AbstractExpression left,AbstractExpression righ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this.left=lef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this.right=righ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interpret(Context c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递归调用每一个组成部分的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interpret()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在递归调用时指定组成部分的连接方式，即非终结符的功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环境类实现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2895480"/>
          <a:ext cx="7391520" cy="355464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Con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rivate HashMap map = new HashMap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assign(String key, String val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往环境类中设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String lookup(String key)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获取存储在环境类中的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解释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数学运算解释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现需要构造一个语言解释器，使得系统可以执行整数间的乘、除和求模运算。如用户输入表达式“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3 * 4 / 2 % 4”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，输出结果为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使用解释器模式实现该功能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解释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数学运算解释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1"/>
          <a:stretch/>
        </p:blipFill>
        <p:spPr>
          <a:xfrm>
            <a:off x="368280" y="762120"/>
            <a:ext cx="85471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解释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数学运算解释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2790720" y="1370160"/>
          <a:ext cx="5896080" cy="50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1370160"/>
                    <a:ext cx="589608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教学内容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解释器模式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动机与定义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结构与分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实例与解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效果与应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扩展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029120" cy="410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8"/>
          <p:cNvSpPr/>
          <p:nvPr/>
        </p:nvSpPr>
        <p:spPr>
          <a:xfrm>
            <a:off x="6390000" y="5576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要不要弄个新的编程语言玩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解释器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：数学运算解释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19 Interpreter\sample01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3325680" y="3762360"/>
            <a:ext cx="2160360" cy="812160"/>
            <a:chOff x="3325680" y="3762360"/>
            <a:chExt cx="2160360" cy="812160"/>
          </a:xfrm>
        </p:grpSpPr>
        <p:pic>
          <p:nvPicPr>
            <p:cNvPr id="147" name="Picture 6" descr="gif005"/>
            <p:cNvPicPr/>
            <p:nvPr/>
          </p:nvPicPr>
          <p:blipFill>
            <a:blip r:embed="rId1"/>
            <a:stretch/>
          </p:blipFill>
          <p:spPr>
            <a:xfrm>
              <a:off x="3325680" y="376236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7"/>
            <p:cNvSpPr/>
            <p:nvPr/>
          </p:nvSpPr>
          <p:spPr>
            <a:xfrm>
              <a:off x="3686040" y="411480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解释器模式的优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易于改变和扩展文法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易于实现文法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增加了新的解释表达式的方式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解释器模式的缺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对于复杂文法难以维护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执行效率较低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应用场景很有限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适用环境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在以下情况下可以使用解释器模式：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可以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将一个需要解释执行的语言中的句子表示为一个抽象语法树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一些重复出现的问题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可以用一种简单的语言来进行表达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文法较为简单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效率不是关键问题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1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解释器模式在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使用面向对象语言实现的编译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中得到了广泛的应用，如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Smalltalk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语言的编译器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2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目前有一些基于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抽象语法树的源代码处理工具，如在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Eclipse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中就提供了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clipse AST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它是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Eclipse JDT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的一个重要组成部分，用来表示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语言的语法结构，用户可以通过扩展其功能，创建自己的文法规则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3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可以使用解释器模式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通过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++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ava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#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等面向对象语言开发简单的编译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如数学表达式解析器、正则表达式解析器等，用于增强这些语言的功能，使之增加一些新的文法规则，用于解释一些特定类型的语句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数学表达式解析器简介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在实际项目开发中如果需要解析数学公式，无须再运用解释器模式进行设计，可以直接使用一些第三方解析工具包，它们可以统称为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数学表达式解析器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Math Expression Parser, MEP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如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xpression4J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ep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bcParser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ymja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Math Expression String Parser(MESP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等来取代解释器模式，它们可以方便地解释一些较为复杂的文法，功能强大，且使用简单，效率较好。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数学表达式解析器简介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Expression4J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：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xpression4J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是一个基于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的开源框架，它用于对数学表达式进行操作，是一个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数学公式解析器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在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xpression4J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中可以将数学表达式存储在字符串对象中。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xpression4J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是高度定制的，用户可以自定义文法，其主要功能包括实数和复数的基本数学运算，支持基本数学函数、复杂函数以及用户使用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语言自定义的函数和文法，还可以定义函数目录（函数集）、支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XML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配置文件等。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http://www.expression4j.org/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数学表达式解析器简介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Jep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：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ep(Java Mathematical Expression Parser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是一个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用于解析和求解数学表达式的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Java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类库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。通过使用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ep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提供的包，我们可以输入一个以字符串表示的任意数学公式，然后立即对其进行求解。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Jep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支持用户自定义变量、常量和自定义函数，同时还包含了大量通用的数学函数和常量。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http://www.singularsys.com/jep/ 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解释器模式定义语言的文法，并且建立一个解释器来解释该语言中的句子，这里的“语言”意思是使用规定格式和语法的代码，它是一种类行为型模式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解释器模式主要包含如下四个角色：在抽象表达式中声明了抽象的解释操作，它是所有的终结符表达式和非终结符表达式的公共父类；终结符表达式是抽象表达式的子类，它实现了与文法中的终结符相关联的解释操作；非终结符表达式也是抽象表达式的子类，它实现了文法中非终结符的解释操作；环境类又称为上下文类，它用于存储解释器之外的一些全局信息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解释器模式描述了如何为简单的语言定义一个文法，如何在该语言中表示一个句子，以及如何解释这些句子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如果在系统中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某一特定类型的问题发生的频率很高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此时可以考虑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将这些问题的实例表述为一个语言中的句子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因此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可以构建一个解释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该解释器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通过解释这些句子来解决这些问题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解释器模式描述了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构成一个简单的语言解释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主要应用在使用面向对象语言开发的编译器中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ahoma"/>
              </a:rPr>
              <a:t>对于一个简单的语言可以使用一些文法规则来进行定义，还可以通过抽象语法树的图形方式来直观地表示语言的构成，每一棵抽象语法树对应一个语言实例。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ahoma"/>
              </a:rPr>
              <a:t>解释器模式的主要优点包括易于改变和扩展文法，易于实现文法并增加了新的解释表达式的方式；其主要缺点是对于复杂文法难以维护，执行效率较低且应用场景很有限。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ahoma"/>
              </a:rPr>
              <a:t>解释器模式适用情况包括：可以将一个需要解释执行的语言中的句子表示为一个抽象语法树；一些重复出现的问题可以用一种简单的语言来进行表达；文法较为简单且效率不是关键问题。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END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2852640"/>
            <a:ext cx="53341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2590920" y="2700360"/>
          <a:ext cx="4343400" cy="37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00360"/>
                    <a:ext cx="434340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7"/>
          <p:cNvSpPr/>
          <p:nvPr/>
        </p:nvSpPr>
        <p:spPr>
          <a:xfrm>
            <a:off x="2895480" y="3691080"/>
            <a:ext cx="19051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解释器模式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Interpreter Pattern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定义语言的文法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并且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建立一个解释器来解释该语言中的句子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这里的“语言”意思是使用规定格式和语法的代码，它是一种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类行为型模式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terpreter Pattern: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Given a language,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efine a representation for its grammar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along with an interpreter that uses the representation to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terpret sentences in the language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requency of use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ow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2" name="Picture 12" descr="use_low"/>
          <p:cNvPicPr/>
          <p:nvPr/>
        </p:nvPicPr>
        <p:blipFill>
          <a:blip r:embed="rId1"/>
          <a:stretch/>
        </p:blipFill>
        <p:spPr>
          <a:xfrm>
            <a:off x="4753080" y="4343400"/>
            <a:ext cx="149544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"/>
          <p:cNvPicPr/>
          <p:nvPr/>
        </p:nvPicPr>
        <p:blipFill>
          <a:blip r:embed="rId1"/>
          <a:stretch/>
        </p:blipFill>
        <p:spPr>
          <a:xfrm>
            <a:off x="1066680" y="2084400"/>
            <a:ext cx="70930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解释器模式包含如下角色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bstractExpression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表达式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erminalExpression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终结符表达式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NonterminalExpression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非终结符表达式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ntext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环境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ent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客户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解释器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解释器模式描述了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为简单的语言定义一个文法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在该语言中表示一个句子，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以及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解释这些句子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伟</cp:lastModifiedBy>
  <dcterms:modified xsi:type="dcterms:W3CDTF">2011-10-22T09:45:25Z</dcterms:modified>
  <cp:revision>16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